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E57-4618-4A6C-9F38-D3092DFB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246-EFA7-4C09-BBE8-90792C10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1BD-D784-4934-BAFA-EC496DFB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E51-0C05-40DF-9AA0-8FF03AC7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FF33-AD21-436D-818E-2F70FCE5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428B-9969-4514-9949-ECA8243A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96E5-C429-472D-B7D7-607CF686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A0E2-30F7-4BB1-A57D-A459A1F4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8563-173E-43D6-8742-8B9BA577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8AB8-5EFA-443B-A5FC-16EA878A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159C-A275-423C-B76C-CFE45C7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326-6DCE-4A8B-B1A3-2A821782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7853-C07F-4CDC-B6DA-DA92E05B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EB56-62AF-4259-A7D4-7D601DC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EC7C-5239-4449-86F1-5F2779BB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668E-75BA-4682-BDD2-131EBCB8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3637-821D-4230-A2EC-4E4DB1DB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7BD-AE21-4584-911E-963589CE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7A5-F98C-4084-B4FE-FAE59561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86F-F236-4236-8414-3E6780A0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662-0CB0-477C-AA46-16D3A134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304-F920-4342-9559-7F218101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EF6-0AA5-46D6-BE14-78066D3B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002-B2D4-4C2F-A13A-AE84F24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CF2-71BC-41C2-A280-2AA16F4D41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52ED-CB2E-4820-9061-D4015B48F0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Bismillah own copy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The Communication Process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533520" y="1295280"/>
          <a:ext cx="7848360" cy="50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84836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od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od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i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42e00"/>
                </a:solidFill>
                <a:uFillTx/>
                <a:latin typeface="Arial"/>
              </a:rPr>
              <a:t>The Communication Process</a:t>
            </a:r>
            <a:r>
              <a:rPr b="0" lang="en-US" sz="4400" spc="-1" strike="noStrike">
                <a:solidFill>
                  <a:srgbClr val="f42e00"/>
                </a:solidFill>
                <a:latin typeface="Arial"/>
              </a:rPr>
              <a:t>  Contd........…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Communication Directions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wnward Di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pward Di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rizontal Di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onal Di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Barriers to Communication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1477800"/>
            <a:ext cx="716292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Overcoming Communication Barrier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762120" y="1363680"/>
            <a:ext cx="76960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3300"/>
                </a:solidFill>
                <a:uFillTx/>
                <a:latin typeface="Arial"/>
              </a:rPr>
              <a:t>Communication Skills</a:t>
            </a:r>
            <a:endParaRPr b="0" lang="en-US" sz="8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048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 u="sng">
                <a:solidFill>
                  <a:srgbClr val="ff3300"/>
                </a:solidFill>
                <a:uFillTx/>
                <a:latin typeface="Arial"/>
              </a:rPr>
              <a:t>Listening Skills</a:t>
            </a:r>
            <a:endParaRPr b="0" lang="en-US" sz="117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The Process of Listening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eiv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tten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derstan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pon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memb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How to Be an Effective Listener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derstand the Complexities of Listen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pare to List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just to the Sit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cus on ideas or key poi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ganize material for learn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What You Feel about Listening</a:t>
            </a: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nt to listen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lay judgment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dmit your biases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n’t tune out “dry” subjects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ccept responsibility for understand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Communication Skills</a:t>
            </a: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Follow the Golden Rule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 unto others as you would have them do unto you. Be the kind of listener you want others to be when you are talking. Ask “How would I want others to listen to me?” That’s how to be an effective listener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 u="sng">
                <a:solidFill>
                  <a:srgbClr val="ff3300"/>
                </a:solidFill>
                <a:uFillTx/>
                <a:latin typeface="Arial"/>
              </a:rPr>
              <a:t>Reading Skills</a:t>
            </a:r>
            <a:endParaRPr b="0" lang="en-US" sz="10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How to Improve Reading Skills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nowing what you need to know, and reading appropriately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nowing how deeply to read the document: skimming, scanning or studying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active reading techniques to pick out key points and keep your mind focused on the material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the table of contents for reading magazines and newspapers, and clipping useful article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ing how to extract information from different article type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ting your own table of contents for reviewing material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indexes, tables of contents, and glossaries to help you assimilate technical information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Suggestions for Improving Reading Speed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rovement of Reading R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Conditions for Increased Reading R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 u="sng">
                <a:solidFill>
                  <a:srgbClr val="ff3300"/>
                </a:solidFill>
                <a:uFillTx/>
                <a:latin typeface="Arial"/>
              </a:rPr>
              <a:t>Writing Skills</a:t>
            </a:r>
            <a:endParaRPr b="0" lang="en-US" sz="14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An Effective Writing Formula</a:t>
            </a:r>
            <a:br>
              <a:rPr sz="4400"/>
            </a:b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 for Unsure Writers 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You have to have a reason for wri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nowing the prospective read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udy the subjec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king not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rganizing the materi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paring the draf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diting &amp; inser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vise and rewri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nal draf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Easy Writing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clear, correct sentences without worrying if they are clear and correct.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well-structured paragraphs that will present and expand your ideas effectively.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cture and develop the longer forms: reports, booklets--yes, even books--with new confidence and control....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More important, you'll finally begin to enjoy writing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ith knowledge comes confidence, and with your new knowledge you'll develop skills and the ability to tackle successfully the writing challenges you now avoid. Being able to do this brings a real sense of achievement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Definition</a:t>
            </a: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ansmission of information, ideas, knowledge or emotions from one person or group to another through speech, writing or signs etc. is called communicatio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3300"/>
                </a:solidFill>
                <a:uFillTx/>
                <a:latin typeface="Arial"/>
              </a:rPr>
              <a:t>Writing Tips</a:t>
            </a:r>
            <a:endParaRPr b="0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oose clear, familiar word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t more action into your sentences by using active voice rather than passive voice verb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lan before you write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 power to your writing by using shorter verbs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 the comma correctly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void wordines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yphenate the elements of a compound adjective that occurs before a nou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 sure to edit your writing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rganize your writing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liminate unclear jargon from your sentence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 specific and use terms your reader can picture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ep your sentences short and simpl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n’t use un-popular acronyms: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e sensitive to the small differences in word meaning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ke your writing reader-friendly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6"/>
          <p:cNvSpPr txBox="1"/>
          <p:nvPr/>
        </p:nvSpPr>
        <p:spPr>
          <a:xfrm>
            <a:off x="533520" y="2209680"/>
            <a:ext cx="784836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99"/>
                    </a:gs>
                    <a:gs pos="50000">
                      <a:srgbClr val="ff3300"/>
                    </a:gs>
                    <a:gs pos="100000">
                      <a:srgbClr val="00ff99"/>
                    </a:gs>
                  </a:gsLst>
                  <a:lin ang="2700000"/>
                </a:gradFill>
                <a:latin typeface="Impact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99"/>
                  </a:gs>
                  <a:gs pos="50000">
                    <a:srgbClr val="ff3300"/>
                  </a:gs>
                  <a:gs pos="100000">
                    <a:srgbClr val="00ff99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Importance of Communication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unication is one of the most frequently used human activities, which embraces five basic elements i.e., thinking, observing, acting, talking and listening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f these five basic elements there are four primary communication skills involved:-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ak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Levels of Communication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erson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nk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l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ing Dia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ologu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Levels of Communication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Contd........…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terperson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e to fac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lephon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ter Wri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x , etc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Levels of Communication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Contd........…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SzPct val="6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oup Communic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 Group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rge Group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Levels of Communication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Contd........…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Mass Communication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News paper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agazin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Book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adi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Televis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1:54:41Z</dcterms:created>
  <dc:creator>zafar</dc:creator>
  <dc:description/>
  <dc:language>en-US</dc:language>
  <cp:lastModifiedBy>Muhammad Shakir</cp:lastModifiedBy>
  <cp:lastPrinted>2017-02-20T11:15:14Z</cp:lastPrinted>
  <dcterms:modified xsi:type="dcterms:W3CDTF">2017-02-20T11:25:08Z</dcterms:modified>
  <cp:revision>78</cp:revision>
  <dc:subject/>
  <dc:title>SMCR MODEL</dc:title>
</cp:coreProperties>
</file>